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48C-A905-4ADC-BD5D-8BB07969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84A-34D0-47AB-B190-73AFC3E4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96C-1966-4534-9298-E95DB773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F21-6135-4E37-A35F-816BE5D4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309-8EAF-4E76-A070-FCCA8311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23B-EC55-4E32-967C-CCFD99FE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CD5-F997-4FE3-B22D-14BDB6A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42B-B772-45D5-B408-FA0D5E0A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32B-E6A8-4F96-8BAF-BE971B97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F7D-ACF0-4630-ADD5-BC9573D0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A8A-5203-4065-9EC9-6E065F0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25D-A386-411A-90E4-34B68DA6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6317-84B5-482F-B956-4922C1311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ecy.wa.gov/programs/swfa/compost/docs/CompostLogo2.jpg&amp;imgrefurl=http://www.ecy.wa.gov/programs/swfa/compost/graphics.html&amp;usg=__m25pRg8l8yIFQLcQmrb1L17Fm8A=&amp;h=1304&amp;w=1267&amp;sz=806&amp;hl=en&amp;start=3&amp;itbs=1&amp;tbnid=Na5Mcxh9uxbbtM:&amp;tbnh=150&amp;tbnw=146&amp;prev=/images%3Fq%3Dcompost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blogs.e-rockford.com/gogreen/files/2009/06/banana_peel.jpg&amp;imgrefurl=http://blogs.e-rockford.com/gogreen/2009/06/11/&amp;usg=__tt2WxbSu0a9CYT64IvaCf1TmgRc=&amp;h=273&amp;w=275&amp;sz=10&amp;hl=en&amp;start=6&amp;itbs=1&amp;tbnid=Q5pzxPeMTNyKDM:&amp;tbnh=113&amp;tbnw=114&amp;prev=/images%3Fq%3Dbanana%2Bpeel%2Bcompost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imgres?imgurl=http://79sparrows.files.wordpress.com/2009/09/apple_core.jpg&amp;imgrefurl=http://79sparrows.wordpress.com/2009/09/14/core-traits-a-tigers-stripes/&amp;usg=__3XvB_hyQKEUOkI3PFMBSqR19NsM=&amp;h=450&amp;w=290&amp;sz=9&amp;hl=en&amp;start=2&amp;itbs=1&amp;tbnid=A_V6DaOHGKHD3M:&amp;tbnh=127&amp;tbnw=82&amp;prev=/images%3Fq%3Dapple%2Bcore%26hl%3Den%26gbv%3D2%26tbs%3Disch: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/imgres?imgurl=http://energytechstocks.com/wp/wp-content/uploads/2008/06/potato-peels330.jpg&amp;imgrefurl=http://energytechstocks.com/wp/%3Fp%3D1392&amp;usg=__X4gZVeU4CK5CAA6S-MnTyIPxhGI=&amp;h=277&amp;w=330&amp;sz=22&amp;hl=en&amp;start=1&amp;itbs=1&amp;tbnid=kUUmLH9OUlibfM:&amp;tbnh=100&amp;tbnw=119&amp;prev=/images%3Fq%3Dpotato%2Bpeel%26hl%3Den%26gbv%3D2%26tbs%3Disch: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gle.com/imgres?imgurl=http://www.ornari.com/wp-content/uploads/2010/03/carrot-peel.jpg&amp;imgrefurl=http://www.ornari.com/%3Fp%3D877&amp;usg=__x2Hhh5bcojYLVqUX53XHbdYEmpA=&amp;h=400&amp;w=600&amp;sz=29&amp;hl=en&amp;start=13&amp;itbs=1&amp;tbnid=c9h24VpnuXXnKM:&amp;tbnh=90&amp;tbnw=135&amp;prev=/images%3Fq%3Dcarrot%2Bpeel%26hl%3Den%26sa%3DX%26gbv%3D2%26tbs%3Disch:1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google.com/imgres?imgurl=http://www.backyardgardener.com/tmimages08/280/4/403.jpg&amp;imgrefurl=http://www.backyardgardener.com/seeds/product08/403.html&amp;usg=__t6yivE7jgWNH2POpCPLbdtdHcHM=&amp;h=280&amp;w=280&amp;sz=16&amp;hl=en&amp;start=10&amp;itbs=1&amp;tbnid=EnS36v52X0oFoM:&amp;tbnh=114&amp;tbnw=114&amp;prev=/images%3Fq%3Dsalad%2Bleaves%26hl%3Den%26gbv%3D2%26tbs%3Disch:1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www.google.com/imgres?imgurl=http://www.rawdietfordogs.net/images/RawBones.jpg&amp;imgrefurl=http://www.rawdietfordogs.net/&amp;usg=__iw2MhMEwbNIJYb3nw3BwquZBrew=&amp;h=244&amp;w=328&amp;sz=17&amp;hl=en&amp;start=7&amp;itbs=1&amp;tbnid=gR5YK8GsXQVEnM:&amp;tbnh=88&amp;tbnw=118&amp;prev=/images%3Fq%3Dmeat%2Band%2Bbones%26hl%3Den%26gbv%3D2%26tbs%3Disch:1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s3.amazonaws.com/greenwala-attachments/production/attachments/3273/middle/cooking-oil.jpg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www.google.com/imgres?imgurl=http://www.exportersindia.com/trade/images/187923.jpg&amp;imgrefurl=http://www.exportersindia.com/trade/offer-india/dairy-product-187923.htm&amp;usg=__9kv5aY3Pmdgylqlm2f5oMQn-A3E=&amp;h=288&amp;w=400&amp;sz=11&amp;hl=en&amp;start=3&amp;itbs=1&amp;tbnid=aG_qpXpLftWHVM:&amp;tbnh=89&amp;tbnw=124&amp;prev=/images%3Fq%3Ddairy%26hl%3Den%26gbv%3D2%26tbs%3Disch:1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www.google.com/imgres?imgurl=http://curtisgreen.files.wordpress.com/2009/05/weeds_exhibit_1.jpg&amp;imgrefurl=http://curtisgreen.wordpress.com/2009/05/13/sophisticated-palate/&amp;usg=__6lGyGJtabnb70CT1W-GqMEBClco=&amp;h=301&amp;w=400&amp;sz=166&amp;hl=en&amp;start=18&amp;itbs=1&amp;tbnid=03mmif_bKuKhyM:&amp;tbnh=93&amp;tbnw=124&amp;prev=/images%3Fq%3Dweeds%26hl%3Den%26gbv%3D2%26tbs%3Disch:1" TargetMode="External"/><Relationship Id="rId20" Type="http://schemas.openxmlformats.org/officeDocument/2006/relationships/image" Target="../media/image10.jpe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5760" y="76320"/>
            <a:ext cx="51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undationDots"/>
              </a:rPr>
              <a:t>Making School Comp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85760" y="1143000"/>
            <a:ext cx="417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This is the kitchen compost b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2819520"/>
            <a:ext cx="6858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When we finish eating or cooking we can put these things in</a:t>
            </a:r>
            <a:r>
              <a:rPr b="0" lang="en-US" sz="4800" spc="-1" strike="noStrike">
                <a:solidFill>
                  <a:srgbClr val="000000"/>
                </a:solidFill>
                <a:latin typeface="FoundationDot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800600" y="990720"/>
            <a:ext cx="1752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57150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These are the things we should </a:t>
            </a:r>
            <a:r>
              <a:rPr b="0" lang="en-US" sz="4000" spc="-1" strike="noStrike">
                <a:solidFill>
                  <a:srgbClr val="cc3300"/>
                </a:solidFill>
                <a:latin typeface="FoundationDot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 put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ostLogo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124776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banana_pee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419720"/>
            <a:ext cx="974880" cy="96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apple_cor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28800" y="4343400"/>
            <a:ext cx="700200" cy="108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potato-peels33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4495680"/>
            <a:ext cx="1017720" cy="85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carrot-pee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191120" y="4495680"/>
            <a:ext cx="1154160" cy="76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40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638680" y="4343400"/>
            <a:ext cx="974880" cy="97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RawBone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28600" y="6934320"/>
            <a:ext cx="1008000" cy="75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See full size im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600200" y="6934320"/>
            <a:ext cx="85716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187923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19520" y="6934320"/>
            <a:ext cx="2057400" cy="147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weeds_exhibit_1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105520" y="6858000"/>
            <a:ext cx="10602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2280" y="2286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When we go out to the garden we empty the bin into the compost he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6320" y="40384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It’s a good idea to help the compost by using a garden fork to turn the hea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2280" y="59436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When the compost is all broken down we can use it for the garden to enrich the soil with nutrien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compost (1)"/>
          <p:cNvPicPr/>
          <p:nvPr/>
        </p:nvPicPr>
        <p:blipFill>
          <a:blip r:embed="rId1"/>
          <a:stretch/>
        </p:blipFill>
        <p:spPr>
          <a:xfrm>
            <a:off x="2057400" y="1676520"/>
            <a:ext cx="3048120" cy="213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finished-compost"/>
          <p:cNvPicPr/>
          <p:nvPr/>
        </p:nvPicPr>
        <p:blipFill>
          <a:blip r:embed="rId2"/>
          <a:stretch/>
        </p:blipFill>
        <p:spPr>
          <a:xfrm>
            <a:off x="3924360" y="7315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1:29:23Z</dcterms:created>
  <dc:creator>Brook Polidano</dc:creator>
  <dc:description/>
  <dc:language>en-US</dc:language>
  <cp:lastModifiedBy>Owner</cp:lastModifiedBy>
  <dcterms:modified xsi:type="dcterms:W3CDTF">2013-04-23T09:26:09Z</dcterms:modified>
  <cp:revision>3</cp:revision>
  <dc:subject/>
  <dc:title>Slide 1</dc:title>
</cp:coreProperties>
</file>